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4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11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2B64-A4CE-4249-BDF7-A9F2BDD51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1255-A06B-407D-9CE1-BBE699BE75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16EB-6580-4B67-8DB3-6CE3642146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FCA3-16F3-4C8D-899B-8E520791A8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3327-0632-45DD-AFE7-22FA979C1A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95DA-55BB-4D37-A9D5-D9B9BD1F82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21B9-933B-4E6E-8B8D-EF0BFD8DC7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145A-7509-4A71-9124-0A6F4645DA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D816-542F-4419-9A64-BC6D7A802E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5A6F-089A-4AFB-96C6-22CD689D99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74FC-56E3-499C-AB76-83FCBDE465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6C50-12E4-49E3-A0C6-CE418625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39DB-330E-4234-87E3-07C9F7C6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724F-28A8-4494-8F2A-D6D213B6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BF36-0253-48DD-88ED-0469221F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07FA-4B37-4A3D-9C21-001199F6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1212-B96D-49CA-87AC-C6BFC463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C5B8-BD8D-45ED-8755-DED81EE7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6774-DCD0-4D17-A230-281F3737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D952-F9BD-4359-833D-DE57FFF7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6C2D-5D34-41BC-98BB-4E9ECC9A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EB95-183B-4900-B69C-891E99E0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6EA5-3400-4701-A364-34F13FC0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535E-EBB9-40DE-86D2-310C278E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5EC4-6E6B-47B6-B094-BDE45059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EBE9-E8FD-4FCC-A5D4-0700961B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B737-9C6E-4671-9A15-7234F045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96B0-8CBF-48CB-8804-7A71BD37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BA2D-33BD-4CF2-B89B-03A1D9C0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5D17-4C14-43ED-A9A4-61CB240A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C6AA-EEA8-43CD-9C15-D277A347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F7FD-0AB0-468B-8FE2-32E9EF78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AACC-59F8-47A3-9B94-D4B8E710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D238-E0CD-4780-ADCF-BB965136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B36D-E842-43C4-A319-A754C074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E9B5-9BE0-4734-9424-0B32E392F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E2FA-6316-4A7D-81C0-20D74887B9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JUST THE FACTS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NQ #2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answer on a separate piece of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use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34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9. What is the meeting of British troops and colonial militia in the towns of Lexington and Concord better known a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2"/>
          <a:stretch/>
        </p:blipFill>
        <p:spPr>
          <a:xfrm>
            <a:off x="2581200" y="3809880"/>
            <a:ext cx="3981600" cy="26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863280"/>
            <a:ext cx="91440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0. Who died on July 4, 1826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3135240" y="2676600"/>
            <a:ext cx="2873520" cy="3689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3"/>
          <a:stretch/>
        </p:blipFill>
        <p:spPr>
          <a:xfrm>
            <a:off x="8853480" y="6603840"/>
            <a:ext cx="326880" cy="2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What is the Declaration of Independence document largely made up of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3191040" cy="376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What was mentioned officially for the first time in the Declaration of Independenc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2362320" y="3505320"/>
            <a:ext cx="466236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863280"/>
            <a:ext cx="91440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Where is the Declaration of Independence kep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85800" y="2819160"/>
            <a:ext cx="7772400" cy="3276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600200" y="2825640"/>
            <a:ext cx="5246640" cy="36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4160" y="1616040"/>
            <a:ext cx="86342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Where was the first 4</a:t>
            </a:r>
            <a:r>
              <a:rPr b="0" lang="en-US" sz="4400" spc="-1" strike="noStrike" baseline="30000">
                <a:solidFill>
                  <a:srgbClr val="000066"/>
                </a:solidFill>
                <a:latin typeface="Arial Black"/>
              </a:rPr>
              <a:t>th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 of July held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2286000" y="3657600"/>
            <a:ext cx="4465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On what date did the thirteen colonies vote YES to separating from England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2514600" y="3112920"/>
            <a:ext cx="43909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6. What were the two primary grievances the colonists had with England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2209680" y="3406680"/>
            <a:ext cx="4426200" cy="29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7. What happened to early attempts by the colonists to unite in a common cause for independenc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2286000" y="3276720"/>
            <a:ext cx="434484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34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8. What was dissolved between the people of the United States and Parliament when the Declaration was announced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2"/>
          <a:stretch/>
        </p:blipFill>
        <p:spPr>
          <a:xfrm>
            <a:off x="2209680" y="3657600"/>
            <a:ext cx="4299120" cy="2849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1-30T13:06:41Z</dcterms:modified>
  <cp:revision>146</cp:revision>
  <dc:subject/>
  <dc:title>D/O: TO EXPLAIN AND IDENTIFY PROBLEMS OF ECONOMICS</dc:title>
</cp:coreProperties>
</file>